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28F-808C-4331-A65D-CC8FA4ED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B24-14BB-431E-A0FB-D26C9B0D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F48-39E4-4B2B-A194-F90A5D88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BB5-9E29-457D-9458-1D69C370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B7A-1347-4DA4-B45B-0991F0F8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C1F-EE9F-4622-9A9D-B40BE02D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F6E-5387-4116-A4D8-C51EA76B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FC9-5425-40AA-B9FD-3C66249A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DBB-1512-430F-AC48-C4EE20CD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D93-1B32-4D16-A05C-21DAFFCD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325-59F6-4A4C-8900-437D2958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A59-A3A6-41D0-BC07-B225CD1D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F4BB-21B0-4407-894E-644B72CC0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32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c</cp:lastModifiedBy>
  <dcterms:modified xsi:type="dcterms:W3CDTF">2006-10-05T10:40:20Z</dcterms:modified>
  <cp:revision>5</cp:revision>
  <dc:subject/>
  <dc:title>PowerPoint Presentation</dc:title>
</cp:coreProperties>
</file>